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B3EA-B7BB-481E-B5E3-06F9D449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1402-019A-4431-9E39-2A8B4D43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D79-5A45-42CE-9A34-705039CD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3C0-C82C-4575-9094-A0035232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F844-7077-4AE1-A516-EC150E45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91F7-1D95-429A-A0DD-56E62682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61DD-95CD-4272-9632-B176A7E6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32CC-6A9A-4B5B-9F56-BA66E73B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4AAD-3B04-4F85-A0CC-0A542695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EA6B-0423-40FA-865E-1FD1A39D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60E7-0F59-4B9F-9E65-E516A763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A4D6-2EB2-4C28-8C52-22ED3615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0313-4018-4ACE-9E99-B4331F70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3708-C3A5-43C1-B365-0B24C55F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7209-5CAF-4391-9FF7-DFCF5F16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EBD1-89E5-4C90-AE32-C8C54C27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6DC1-8514-4998-949D-20363BD6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79C-BC4E-4F6F-A749-8C84E727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72AD-99B9-418F-A1B6-3FDB83FD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EB41-6B13-4999-B330-2170A360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247-E306-4F29-BE18-ECA14329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A294-ABF1-483E-B3C4-B1DC21D6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2CA-5264-4E08-870F-10C3E6B3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EB7C-7C6C-46A3-A514-26A558DB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9618-80C7-4056-9074-1BC8AC578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BA90-6372-434B-9515-C73D14932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trial balance che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20" y="22464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0400" y="44197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eriod’s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295280" y="2133720"/>
            <a:ext cx="3733920" cy="3808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71600" y="4191120"/>
            <a:ext cx="3505320" cy="4572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3276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 – de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 -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38680" y="2971440"/>
            <a:ext cx="457200" cy="6094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457200" cy="12193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Check if sections are in balance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D’ siblings) = 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C’ siblin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1752480"/>
            <a:ext cx="76320" cy="190512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733920"/>
            <a:ext cx="76320" cy="190476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619760" y="2743200"/>
            <a:ext cx="533160" cy="29718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4724280"/>
            <a:ext cx="152280" cy="9907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5E5-AB88-48C9-8778-0571B918AA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Just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to test if sibling of amount is credit c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st=“../gl-cor:debitCreditCode eq ‘D’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200400"/>
            <a:ext cx="1371600" cy="45720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657600"/>
            <a:ext cx="609480" cy="3049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EEB4-D246-4AB0-928D-41B3259886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l balance che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146240"/>
            <a:ext cx="830592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F82A-137D-40A4-B0D1-E6D417EDE7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e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lue matches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cision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5D1-21A7-40DC-900A-91BABEF890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ID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5100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Description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upplie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Type …&gt;account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clude …&gt;beginning_balance&lt;/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209680"/>
            <a:ext cx="152640" cy="1905120"/>
          </a:xfrm>
          <a:custGeom>
            <a:avLst/>
            <a:gdLst>
              <a:gd name="textAreaLeft" fmla="*/ 97560 w 152640"/>
              <a:gd name="textAreaRight" fmla="*/ 15300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7080" y="281952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ggregate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581280"/>
            <a:ext cx="1752840" cy="5335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6960" y="40384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kip ending_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62CA-4195-406E-9FF4-1E6A895C0E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1136520"/>
            <a:ext cx="8534520" cy="556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AA3E-F04B-4F3D-ABDD-18B4EC1B98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te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ed 2 more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accou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C’ (cred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D’ (deb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equation to 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(credits which are not ending-balance -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debits which are not ending-balance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edit which is ending-balance –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bit which is not ending-balance) &lt; 1.00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5E8-95F2-4498-914C-66D25AF92E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2:04:19Z</dcterms:modified>
  <cp:revision>198</cp:revision>
  <dc:subject/>
  <dc:title>Materials preparation</dc:title>
</cp:coreProperties>
</file>